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wmf" ContentType="image/x-wmf"/>
  <Override PartName="/ppt/media/image10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23.png" ContentType="image/png"/>
  <Override PartName="/ppt/media/image13.jpeg" ContentType="image/jpeg"/>
  <Override PartName="/ppt/media/image31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86CF-591C-4EDC-9C75-70D3307F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few solutions can be found as hidden slides in this presentation.  Further solutions are posted on the MP page of the CAMPPP wiki @ gains-camppp.wikispac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922-FE82-4828-A6F4-1D709D3F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3F9-F45F-482C-ACE4-0E91D7F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8F8-75D2-48F0-B3AE-2FE29148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192-CECD-4B2D-BCBC-85E3A00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5C7-0F5F-4B6D-926E-D682AC8C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78C-957D-4A4B-AF4E-CAF5912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F39-67D7-46B3-8CFA-9D284BF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9BA-3E5C-4CBF-BE6E-43A986B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5134-4DE7-440F-B8B2-7790404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A23-6268-4F1E-AF05-3942DB9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9F2-BB00-46E0-A314-7391F2D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FBB-D86E-44F7-ABD3-6342ED1A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FFE-CB15-44E4-BDEC-6446D519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97F6-4850-4546-8130-8C09FC0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B9B3-1BCA-41CB-B98F-C3CC526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749-1ECB-487C-80E0-5227B83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BD4-BC7F-40B2-A11B-593690F0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47B4-4F5F-4DF6-BBE3-0A2C6F3E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6D3E-FB39-4789-B270-9B2F4666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CCB5-5DBF-471A-B1FE-E3E535D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0AC9-30F7-42E7-BD57-5B8A3BD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358A-2AC8-4F24-B557-66FA350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871-49D2-403F-91E7-B05FC38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A74F-ED8D-4AB6-8BCF-714A1A92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EFE2-47C7-4169-9B01-3BBDC47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C512-8AD2-4B77-891D-14B24AE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5B04-D3E7-4230-A041-12019C5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A127-5A32-4890-BC7F-992EA8E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EBD4-FF79-42B3-AD7F-1EF4179E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1FA5-0A71-4E63-A543-592BBA1A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C7BC-DD3A-4A04-B61C-19CA82A0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C166-5A1C-48C0-A3B6-78A5A6C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C1CF-D8E3-4A33-A24D-8B4754C2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688-ED2B-4D51-BBF5-A8FF91EC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A24F-4184-49A8-BEC1-F815213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2DC8-00B4-4D51-840A-4279D9A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93B7-CB5F-40C2-910B-E1324CEF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3676-743A-43DC-885E-4E07CA7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C009-EA5E-4DD9-AC1B-8D3E4E3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296B-AE29-4F72-9784-4AA3736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67C0-3116-4A8C-9D72-5539046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B1CE-7E11-4D2D-9C74-727CAB28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24B5-06B8-47C2-A587-C21E0224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0F2-02BA-4C09-AD7E-A5293D46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0BD-6578-4AC5-9664-E97C9355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1BD-C614-4E4F-83C6-6B692B5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603-367E-46F0-A18E-CEA161C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11D-009F-4782-A547-DE06EDB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228-80D2-40CC-A41D-8D8899444F7A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79B-494D-491B-9F51-EA97EEA0E619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A905-A745-4284-8D1E-3DB6F7E66362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A682-2B1B-4063-BACB-17E67EEB9AEC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G:/../../azzopaan/Desktop/Senior%20Math%20Revision/Grade%2012%20Training/PowerPoints/Deck%20Problem%20Day%20One.wp2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uesday Aug 19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7:00 – 8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256360" y="3546360"/>
            <a:ext cx="2519280" cy="2437920"/>
            <a:chOff x="5256360" y="3546360"/>
            <a:chExt cx="2519280" cy="2437920"/>
          </a:xfrm>
        </p:grpSpPr>
        <p:grpSp>
          <p:nvGrpSpPr>
            <p:cNvPr id="211" name=""/>
            <p:cNvGrpSpPr/>
            <p:nvPr/>
          </p:nvGrpSpPr>
          <p:grpSpPr>
            <a:xfrm>
              <a:off x="5442120" y="3732120"/>
              <a:ext cx="2160720" cy="2089080"/>
              <a:chOff x="5442120" y="3732120"/>
              <a:chExt cx="2160720" cy="2089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2120" y="3732120"/>
                <a:ext cx="2160720" cy="2089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86840" y="3982680"/>
                <a:ext cx="194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000000"/>
                    </a:solidFill>
                    <a:latin typeface="Arial"/>
                  </a:rPr>
                  <a:t>DEC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16200000">
              <a:off x="5712480" y="5574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15280" y="393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1680" y="3546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5258520" y="4537440"/>
              <a:ext cx="3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172200" y="2590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372360" y="4689360"/>
            <a:ext cx="2447640" cy="1692360"/>
            <a:chOff x="6372360" y="4689360"/>
            <a:chExt cx="2447640" cy="1692360"/>
          </a:xfrm>
        </p:grpSpPr>
        <p:sp>
          <p:nvSpPr>
            <p:cNvPr id="221" name=""/>
            <p:cNvSpPr/>
            <p:nvPr/>
          </p:nvSpPr>
          <p:spPr>
            <a:xfrm>
              <a:off x="6372360" y="4689360"/>
              <a:ext cx="2447640" cy="1692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8560" y="5322240"/>
              <a:ext cx="157392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16000" y="2217600"/>
            <a:ext cx="8638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have been hired to build a deck attached the second floor of a cottage using 48 prefabricated 1m x 1m sections. Determine the dimensions of at least 2 decks that can be built in the configuration shown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ll different decks require the same amount of railing? Expl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87280" y="4002120"/>
            <a:ext cx="2160720" cy="1442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03280" y="64245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eachside-bb.nf.ca/Accomdation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087640" y="4986360"/>
            <a:ext cx="2197080" cy="1467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4000" y="173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d469b"/>
                </a:solidFill>
                <a:latin typeface="Arial"/>
              </a:rPr>
              <a:t>Deck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60360" y="2673360"/>
          <a:ext cx="8388360" cy="39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673360"/>
                    <a:ext cx="838836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95280" y="20239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pezoi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82060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problem in 2 or more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questions using the MP package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note when a MP is recognized as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202392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2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olving this problem in more than 1 way encourage and promote the use of different Mathematical Process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980080" y="3706200"/>
            <a:ext cx="2955240" cy="2403360"/>
            <a:chOff x="2980080" y="3706200"/>
            <a:chExt cx="2955240" cy="2403360"/>
          </a:xfrm>
        </p:grpSpPr>
        <p:sp>
          <p:nvSpPr>
            <p:cNvPr id="238" name=""/>
            <p:cNvSpPr/>
            <p:nvPr/>
          </p:nvSpPr>
          <p:spPr>
            <a:xfrm rot="1497000">
              <a:off x="3164400" y="4183920"/>
              <a:ext cx="25858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462120" y="4296960"/>
              <a:ext cx="515880" cy="513360"/>
              <a:chOff x="3462120" y="4296960"/>
              <a:chExt cx="515880" cy="513360"/>
            </a:xfrm>
          </p:grpSpPr>
          <p:sp>
            <p:nvSpPr>
              <p:cNvPr id="240" name=""/>
              <p:cNvSpPr/>
              <p:nvPr/>
            </p:nvSpPr>
            <p:spPr>
              <a:xfrm rot="21283800">
                <a:off x="3504600" y="4334760"/>
                <a:ext cx="435600" cy="43596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283800">
                <a:off x="3753360" y="4727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283800">
                <a:off x="3734640" y="47142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283800">
                <a:off x="3718440" y="4731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283800">
                <a:off x="3698280" y="47174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283800">
                <a:off x="3661200" y="4720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283800">
                <a:off x="3681360" y="47354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283800">
                <a:off x="3588120" y="46893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283800">
                <a:off x="3573000" y="46749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283800">
                <a:off x="3560400" y="46591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283800">
                <a:off x="3528720" y="46083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283800">
                <a:off x="3526560" y="4575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283800">
                <a:off x="3543480" y="4557600"/>
                <a:ext cx="18720" cy="4968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283800">
                <a:off x="3522600" y="45428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283800">
                <a:off x="3537000" y="449856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283800">
                <a:off x="3623760" y="438012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283800">
                <a:off x="3600360" y="439632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283800">
                <a:off x="3588480" y="4412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283800">
                <a:off x="3579120" y="44272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283800">
                <a:off x="3568680" y="443916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283800">
                <a:off x="3556800" y="445392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283800">
                <a:off x="3546000" y="446832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283800">
                <a:off x="3544920" y="462096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283800">
                <a:off x="3604680" y="470304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283800">
                <a:off x="3630960" y="47124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1283800">
                <a:off x="3744000" y="4376160"/>
                <a:ext cx="43200" cy="169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1283800">
                <a:off x="3725280" y="43628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283800">
                <a:off x="3708360" y="438048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1283800">
                <a:off x="3688920" y="43646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283800">
                <a:off x="3673440" y="4383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1283800">
                <a:off x="3768480" y="43902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283800">
                <a:off x="3786840" y="4379760"/>
                <a:ext cx="19440" cy="4140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283800">
                <a:off x="3891960" y="4509000"/>
                <a:ext cx="19080" cy="5436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1283800">
                <a:off x="3805560" y="439092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283800">
                <a:off x="3820680" y="4401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1283800">
                <a:off x="3835800" y="4413600"/>
                <a:ext cx="18360" cy="6696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1283800">
                <a:off x="3848760" y="4431600"/>
                <a:ext cx="18720" cy="8460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283800">
                <a:off x="3867480" y="444996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283800">
                <a:off x="3879360" y="447660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283800">
                <a:off x="3708360" y="4541040"/>
                <a:ext cx="25884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83800">
                <a:off x="3708720" y="430740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283800">
                <a:off x="3494160" y="4572360"/>
                <a:ext cx="23184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283800">
                <a:off x="3579120" y="4560120"/>
                <a:ext cx="28224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283800">
                <a:off x="3472920" y="4329000"/>
                <a:ext cx="24840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283800">
                <a:off x="3591000" y="445392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283800">
                <a:off x="3746520" y="44395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83800">
                <a:off x="3818880" y="4412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1283800">
                <a:off x="3835080" y="4428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283800">
                <a:off x="3845520" y="44413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83800">
                <a:off x="3884760" y="451404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283800">
                <a:off x="3867840" y="45320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283800">
                <a:off x="3886920" y="45460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83800">
                <a:off x="3870720" y="4564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283800">
                <a:off x="3882960" y="45806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283800">
                <a:off x="3873600" y="4597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283800">
                <a:off x="3866040" y="46353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283800">
                <a:off x="3853800" y="46530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283800">
                <a:off x="3844080" y="46659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83800">
                <a:off x="3831840" y="468252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1283800">
                <a:off x="3811320" y="469692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1283800">
                <a:off x="3769560" y="4710600"/>
                <a:ext cx="43200" cy="1764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283800">
                <a:off x="3855240" y="445896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283800">
                <a:off x="3867840" y="447912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283800">
                <a:off x="3801960" y="43999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283800">
                <a:off x="3781080" y="43855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283800">
                <a:off x="3762000" y="437472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729320" y="4926960"/>
              <a:ext cx="657000" cy="658440"/>
              <a:chOff x="4729320" y="4926960"/>
              <a:chExt cx="657000" cy="658440"/>
            </a:xfrm>
          </p:grpSpPr>
          <p:sp>
            <p:nvSpPr>
              <p:cNvPr id="307" name=""/>
              <p:cNvSpPr/>
              <p:nvPr/>
            </p:nvSpPr>
            <p:spPr>
              <a:xfrm flipH="1" rot="3311400">
                <a:off x="4838760" y="5035320"/>
                <a:ext cx="435960" cy="43524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3311400">
                <a:off x="4881240" y="5332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3311400">
                <a:off x="4903560" y="53377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3311400">
                <a:off x="4899960" y="53614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3311400">
                <a:off x="4924080" y="536796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3311400">
                <a:off x="4946760" y="5398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3311400">
                <a:off x="4921560" y="53928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3311400">
                <a:off x="5016960" y="54345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3311400">
                <a:off x="5037120" y="54356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3311400">
                <a:off x="5057640" y="5436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311400">
                <a:off x="5116680" y="54273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3311400">
                <a:off x="5144040" y="5407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3311400">
                <a:off x="5134320" y="537768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3311400">
                <a:off x="5171760" y="53895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3311400">
                <a:off x="5185800" y="5344920"/>
                <a:ext cx="19440" cy="4356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3311400">
                <a:off x="5205600" y="519588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311400">
                <a:off x="5226840" y="523332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3311400">
                <a:off x="5228280" y="5255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3311400">
                <a:off x="5223960" y="5272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3311400">
                <a:off x="5221800" y="52880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3311400">
                <a:off x="5216400" y="530640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3311400">
                <a:off x="5208120" y="532116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3311400">
                <a:off x="5088240" y="541872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3311400">
                <a:off x="4988520" y="542700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3311400">
                <a:off x="4964040" y="541152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3311400">
                <a:off x="5135760" y="5103360"/>
                <a:ext cx="43200" cy="165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3311400">
                <a:off x="5178600" y="51184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3311400">
                <a:off x="5174640" y="514260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3311400">
                <a:off x="5200560" y="51476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3311400">
                <a:off x="5196240" y="51717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3311400">
                <a:off x="5128560" y="51026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3311400">
                <a:off x="5115960" y="5077800"/>
                <a:ext cx="19440" cy="4104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3311400">
                <a:off x="4944960" y="507852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3311400">
                <a:off x="5096880" y="50716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3311400">
                <a:off x="5078520" y="50662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3311400">
                <a:off x="5049000" y="505800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3311400">
                <a:off x="5020200" y="505620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3311400">
                <a:off x="4954320" y="503568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3311400">
                <a:off x="4947480" y="505332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3311400">
                <a:off x="4771080" y="5115600"/>
                <a:ext cx="259200" cy="23724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3311400">
                <a:off x="4965120" y="497196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rot="3311400">
                <a:off x="4911120" y="5311440"/>
                <a:ext cx="232200" cy="22752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3311400">
                <a:off x="4857840" y="523512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3311400">
                <a:off x="5086800" y="5160240"/>
                <a:ext cx="248760" cy="25308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3311400">
                <a:off x="5114880" y="52430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3311400">
                <a:off x="5035680" y="5118840"/>
                <a:ext cx="76320" cy="7560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3311400">
                <a:off x="5079240" y="50792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3311400">
                <a:off x="5058000" y="5076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3311400">
                <a:off x="5038920" y="50760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3311400">
                <a:off x="4959360" y="509364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3311400">
                <a:off x="4957200" y="51184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3311400">
                <a:off x="4934520" y="51127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3311400">
                <a:off x="4930920" y="5136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3311400">
                <a:off x="4910760" y="513828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3311400">
                <a:off x="4903200" y="51562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3311400">
                <a:off x="4879440" y="5186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rot="3311400">
                <a:off x="4874040" y="52070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rot="3311400">
                <a:off x="4870440" y="522360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rot="3311400">
                <a:off x="4865760" y="524340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3311400">
                <a:off x="4861800" y="526536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3311400">
                <a:off x="4863600" y="5299200"/>
                <a:ext cx="43200" cy="1728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rot="3311400">
                <a:off x="5019480" y="507996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rot="3311400">
                <a:off x="4989240" y="508068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3311400">
                <a:off x="5100480" y="50839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rot="3311400">
                <a:off x="5123880" y="5090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rot="3311400">
                <a:off x="5145480" y="50986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4164120" y="4321440"/>
              <a:ext cx="564480" cy="1127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38720" y="5357880"/>
          <a:ext cx="2621160" cy="28065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219640" y="4508640"/>
          <a:ext cx="1544400" cy="1488960"/>
        </p:xfrm>
        <a:graphic>
          <a:graphicData uri="http://schemas.openxmlformats.org/drawingml/2006/table">
            <a:tbl>
              <a:tblPr/>
              <a:tblGrid>
                <a:gridCol w="220680"/>
                <a:gridCol w="220680"/>
                <a:gridCol w="220680"/>
                <a:gridCol w="220680"/>
                <a:gridCol w="220680"/>
                <a:gridCol w="220320"/>
                <a:gridCol w="2206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0" y="-1764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  <a:ea typeface="Arial"/>
              </a:rPr>
              <a:t>Deck Problem: Multiple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81920" y="2201760"/>
            <a:ext cx="48888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4038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phic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656320" y="2085840"/>
          <a:ext cx="1940040" cy="2487240"/>
        </p:xfrm>
        <a:graphic>
          <a:graphicData uri="http://schemas.openxmlformats.org/drawingml/2006/table">
            <a:tbl>
              <a:tblPr/>
              <a:tblGrid>
                <a:gridCol w="852480"/>
                <a:gridCol w="108756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</a:t>
                      </a:r>
                      <a:br>
                        <a:rPr sz="1600"/>
                      </a:b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5076720" y="1125360"/>
            <a:ext cx="280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umeric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0000" y="4365720"/>
            <a:ext cx="2951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lgebraic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Representation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48280" y="4191120"/>
            <a:ext cx="283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Concre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2xy – x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=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18040" y="6058080"/>
            <a:ext cx="938160" cy="785520"/>
            <a:chOff x="3218040" y="6058080"/>
            <a:chExt cx="938160" cy="785520"/>
          </a:xfrm>
        </p:grpSpPr>
        <p:sp>
          <p:nvSpPr>
            <p:cNvPr id="385" name=""/>
            <p:cNvSpPr/>
            <p:nvPr/>
          </p:nvSpPr>
          <p:spPr>
            <a:xfrm>
              <a:off x="3218040" y="6058080"/>
              <a:ext cx="938160" cy="78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3349080" y="6224040"/>
                  <a:ext cx="66384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7" name=""/>
          <p:cNvGrpSpPr/>
          <p:nvPr/>
        </p:nvGrpSpPr>
        <p:grpSpPr>
          <a:xfrm>
            <a:off x="985680" y="1773360"/>
            <a:ext cx="2881440" cy="2520720"/>
            <a:chOff x="985680" y="1773360"/>
            <a:chExt cx="2881440" cy="252072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rcRect l="12356" t="5710" r="30813" b="5710"/>
            <a:stretch/>
          </p:blipFill>
          <p:spPr>
            <a:xfrm>
              <a:off x="1058760" y="1826640"/>
              <a:ext cx="27716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985680" y="1773360"/>
              <a:ext cx="2881440" cy="25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090520" y="2781000"/>
            <a:ext cx="465480" cy="647640"/>
            <a:chOff x="2090520" y="2781000"/>
            <a:chExt cx="465480" cy="647640"/>
          </a:xfrm>
        </p:grpSpPr>
        <p:sp>
          <p:nvSpPr>
            <p:cNvPr id="391" name=""/>
            <p:cNvSpPr/>
            <p:nvPr/>
          </p:nvSpPr>
          <p:spPr>
            <a:xfrm flipV="1">
              <a:off x="2556000" y="2781000"/>
              <a:ext cx="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090520" y="2789280"/>
              <a:ext cx="463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"/>
          <p:cNvGraphicFramePr/>
          <p:nvPr/>
        </p:nvGraphicFramePr>
        <p:xfrm>
          <a:off x="5794200" y="4941720"/>
          <a:ext cx="1511640" cy="1702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394" name=""/>
          <p:cNvGrpSpPr/>
          <p:nvPr/>
        </p:nvGrpSpPr>
        <p:grpSpPr>
          <a:xfrm>
            <a:off x="6559560" y="5791320"/>
            <a:ext cx="2584080" cy="1052280"/>
            <a:chOff x="6559560" y="5791320"/>
            <a:chExt cx="2584080" cy="1052280"/>
          </a:xfrm>
        </p:grpSpPr>
        <p:sp>
          <p:nvSpPr>
            <p:cNvPr id="395" name=""/>
            <p:cNvSpPr/>
            <p:nvPr/>
          </p:nvSpPr>
          <p:spPr>
            <a:xfrm>
              <a:off x="6559560" y="5791320"/>
              <a:ext cx="2584080" cy="10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68440" y="6093000"/>
              <a:ext cx="191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124000" y="2378160"/>
            <a:ext cx="216000" cy="1050480"/>
            <a:chOff x="2124000" y="2378160"/>
            <a:chExt cx="216000" cy="1050480"/>
          </a:xfrm>
        </p:grpSpPr>
        <p:sp>
          <p:nvSpPr>
            <p:cNvPr id="398" name=""/>
            <p:cNvSpPr/>
            <p:nvPr/>
          </p:nvSpPr>
          <p:spPr>
            <a:xfrm flipV="1">
              <a:off x="2340000" y="2378160"/>
              <a:ext cx="0" cy="10504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124000" y="2378160"/>
              <a:ext cx="21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123640" y="2866680"/>
            <a:ext cx="648000" cy="576360"/>
            <a:chOff x="2123640" y="2866680"/>
            <a:chExt cx="648000" cy="576360"/>
          </a:xfrm>
        </p:grpSpPr>
        <p:sp>
          <p:nvSpPr>
            <p:cNvPr id="401" name=""/>
            <p:cNvSpPr/>
            <p:nvPr/>
          </p:nvSpPr>
          <p:spPr>
            <a:xfrm flipV="1">
              <a:off x="2771640" y="2866680"/>
              <a:ext cx="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23640" y="2867040"/>
              <a:ext cx="64764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Deck Problem -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14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4132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116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100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4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052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020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8004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98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97240" y="44388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44388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14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132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16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100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084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06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052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36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020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004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98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97240" y="42260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95640" y="42260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14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132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116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100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4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06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052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36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020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004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8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97240" y="40132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95640" y="40132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14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132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116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100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84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6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052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36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020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004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8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97240" y="38005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95640" y="38005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14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132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116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4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06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052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36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20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98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97240" y="35877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35877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14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132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116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100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84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06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052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036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020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004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8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97240" y="3333600"/>
            <a:ext cx="201600" cy="25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5640" y="3333600"/>
            <a:ext cx="201600" cy="25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14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4132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116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100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4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06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052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020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004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98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97240" y="31212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31212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14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4132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116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100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4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06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052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036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020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004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98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97240" y="29084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95640" y="29084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14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132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116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100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4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06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052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036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020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004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98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97240" y="26956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95640" y="26956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14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132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100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4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06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052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36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020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004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8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97240" y="24829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95640" y="24829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14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132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16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100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4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06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052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036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020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004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98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397240" y="22701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195640" y="22701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14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132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116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100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4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06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052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020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004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8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97240" y="205740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95640" y="205740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14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132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116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100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84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06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52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020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004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98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397240" y="184464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95640" y="184464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95640" y="1844640"/>
            <a:ext cx="2620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95640" y="2057400"/>
            <a:ext cx="26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195640" y="227016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5640" y="248292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95640" y="26956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95640" y="29084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95640" y="31212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95640" y="33336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95640" y="358776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5640" y="380052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95640" y="40132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95640" y="42260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95640" y="44388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95640" y="4651200"/>
            <a:ext cx="403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195640" y="1844640"/>
            <a:ext cx="0" cy="28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97240" y="184464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98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004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020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036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052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06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84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100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32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14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16440" y="1844640"/>
            <a:ext cx="0" cy="425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16440" y="4438800"/>
            <a:ext cx="0" cy="21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16440" y="42260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14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4132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98840" y="2270160"/>
            <a:ext cx="221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8840" y="2270160"/>
            <a:ext cx="0" cy="23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16440" y="248292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16440" y="227016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816440" y="26956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16440" y="29084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16440" y="3121200"/>
            <a:ext cx="0" cy="21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16440" y="3333600"/>
            <a:ext cx="0" cy="254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16440" y="358776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16440" y="380052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16440" y="40132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004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98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020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036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052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06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084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100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116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627280" y="2276640"/>
            <a:ext cx="2584080" cy="2736000"/>
            <a:chOff x="2627280" y="2276640"/>
            <a:chExt cx="2584080" cy="2736000"/>
          </a:xfrm>
        </p:grpSpPr>
        <p:sp>
          <p:nvSpPr>
            <p:cNvPr id="626" name=""/>
            <p:cNvSpPr/>
            <p:nvPr/>
          </p:nvSpPr>
          <p:spPr>
            <a:xfrm>
              <a:off x="2627280" y="2276640"/>
              <a:ext cx="2584080" cy="27360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36160" y="3060720"/>
              <a:ext cx="191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24000" y="1413000"/>
            <a:ext cx="1800000" cy="647640"/>
            <a:chOff x="324000" y="1413000"/>
            <a:chExt cx="1800000" cy="647640"/>
          </a:xfrm>
        </p:grpSpPr>
        <p:sp>
          <p:nvSpPr>
            <p:cNvPr id="629" name=""/>
            <p:cNvSpPr/>
            <p:nvPr/>
          </p:nvSpPr>
          <p:spPr>
            <a:xfrm>
              <a:off x="324000" y="1413000"/>
              <a:ext cx="163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Perfect Squ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47640" y="1916280"/>
              <a:ext cx="576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284360" y="1341360"/>
            <a:ext cx="3169080" cy="642600"/>
            <a:chOff x="4284360" y="1341360"/>
            <a:chExt cx="3169080" cy="642600"/>
          </a:xfrm>
        </p:grpSpPr>
        <p:sp>
          <p:nvSpPr>
            <p:cNvPr id="632" name=""/>
            <p:cNvSpPr/>
            <p:nvPr/>
          </p:nvSpPr>
          <p:spPr>
            <a:xfrm>
              <a:off x="5076720" y="134136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Even Number of Tiles Remai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284360" y="155736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940360" y="2997360"/>
            <a:ext cx="2808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1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 =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2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3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4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5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6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9640" y="5950080"/>
            <a:ext cx="115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2590920" y="2300400"/>
            <a:ext cx="950760" cy="304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1890720" cy="1101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5257800" y="1219320"/>
            <a:ext cx="2286000" cy="1371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41680" y="2314440"/>
            <a:ext cx="3606840" cy="30402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43480" y="4738680"/>
            <a:ext cx="25905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320040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12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24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38480" y="48769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6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0520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2590920" y="2286000"/>
            <a:ext cx="950760" cy="3048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41680" y="2314440"/>
            <a:ext cx="3606840" cy="30402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548160" y="2300400"/>
            <a:ext cx="947520" cy="304776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90920" y="320040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12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4419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6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04960" y="2300400"/>
            <a:ext cx="951120" cy="3047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1890720" cy="11016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0384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24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66880" y="37339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 = 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36708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 = 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442800" y="932040"/>
            <a:ext cx="8253360" cy="564480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1676520" y="914400"/>
            <a:ext cx="6019560" cy="5943600"/>
            <a:chOff x="1676520" y="914400"/>
            <a:chExt cx="6019560" cy="5943600"/>
          </a:xfrm>
        </p:grpSpPr>
        <p:sp>
          <p:nvSpPr>
            <p:cNvPr id="665" name=""/>
            <p:cNvSpPr/>
            <p:nvPr/>
          </p:nvSpPr>
          <p:spPr>
            <a:xfrm>
              <a:off x="1676520" y="914400"/>
              <a:ext cx="601956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6" name=""/>
            <p:cNvGraphicFramePr/>
            <p:nvPr/>
          </p:nvGraphicFramePr>
          <p:xfrm>
            <a:off x="1808280" y="990720"/>
            <a:ext cx="5811840" cy="58672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08280" y="990720"/>
                      <a:ext cx="5811840" cy="586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8" name=""/>
          <p:cNvSpPr/>
          <p:nvPr/>
        </p:nvSpPr>
        <p:spPr>
          <a:xfrm>
            <a:off x="5410080" y="914400"/>
            <a:ext cx="243864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14800" y="957240"/>
            <a:ext cx="364356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rcRect l="0" t="0" r="52346" b="47920"/>
          <a:stretch/>
        </p:blipFill>
        <p:spPr>
          <a:xfrm>
            <a:off x="1371600" y="1073160"/>
            <a:ext cx="6019920" cy="49338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rcRect l="13190" t="16366" r="54133" b="55924"/>
          <a:stretch/>
        </p:blipFill>
        <p:spPr>
          <a:xfrm>
            <a:off x="3048120" y="2633760"/>
            <a:ext cx="4125960" cy="262404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rcRect l="12614" t="16651" r="56252" b="56012"/>
          <a:stretch/>
        </p:blipFill>
        <p:spPr>
          <a:xfrm>
            <a:off x="2971800" y="2666880"/>
            <a:ext cx="3911760" cy="259416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rcRect l="5467" t="6251" r="46875" b="66668"/>
          <a:stretch/>
        </p:blipFill>
        <p:spPr>
          <a:xfrm>
            <a:off x="4267080" y="1600200"/>
            <a:ext cx="3124440" cy="13320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rcRect l="7324" t="34439" r="48636" b="19004"/>
          <a:stretch/>
        </p:blipFill>
        <p:spPr>
          <a:xfrm>
            <a:off x="1795320" y="1571760"/>
            <a:ext cx="5605560" cy="44431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6"/>
          <a:srcRect l="6279" t="10814" r="43431" b="35266"/>
          <a:stretch/>
        </p:blipFill>
        <p:spPr>
          <a:xfrm>
            <a:off x="2028960" y="1566720"/>
            <a:ext cx="5302080" cy="4264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7"/>
          <a:srcRect l="10993" t="14722" r="40932" b="38008"/>
          <a:stretch/>
        </p:blipFill>
        <p:spPr>
          <a:xfrm>
            <a:off x="2514600" y="1905120"/>
            <a:ext cx="4876920" cy="371448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3809880" y="5257800"/>
            <a:ext cx="1143000" cy="749160"/>
            <a:chOff x="3809880" y="5257800"/>
            <a:chExt cx="1143000" cy="749160"/>
          </a:xfrm>
        </p:grpSpPr>
        <p:sp>
          <p:nvSpPr>
            <p:cNvPr id="678" name=""/>
            <p:cNvSpPr/>
            <p:nvPr/>
          </p:nvSpPr>
          <p:spPr>
            <a:xfrm flipV="1">
              <a:off x="4209840" y="525780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2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681440" y="5172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276360" y="5300280"/>
            <a:ext cx="482436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: Problem Solving with the Math Processes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879560" y="1098720"/>
            <a:ext cx="5359320" cy="38178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709640" y="4381560"/>
            <a:ext cx="5562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051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x + y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209680" y="3176640"/>
                <a:ext cx="1143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419720" y="380988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4267080" y="5029200"/>
            <a:ext cx="266724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 = 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76920" y="1109520"/>
            <a:ext cx="2346120" cy="10335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724280" y="1109520"/>
            <a:ext cx="2576520" cy="1100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rcRect l="11721" t="5099" r="12500" b="4558"/>
          <a:stretch/>
        </p:blipFill>
        <p:spPr>
          <a:xfrm>
            <a:off x="914400" y="961920"/>
            <a:ext cx="6400800" cy="57229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2670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y = 30 -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cc66"/>
                </a:solidFill>
                <a:latin typeface="Arial"/>
              </a:rPr>
              <a:t>y = x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90520" y="880920"/>
            <a:ext cx="5791320" cy="57913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14400" y="1219320"/>
            <a:ext cx="4419720" cy="4690800"/>
          </a:xfrm>
          <a:prstGeom prst="line">
            <a:avLst/>
          </a:prstGeom>
          <a:ln w="28440">
            <a:solidFill>
              <a:srgbClr val="00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462480" y="2938320"/>
            <a:ext cx="1694880" cy="459720"/>
            <a:chOff x="3462480" y="2938320"/>
            <a:chExt cx="1694880" cy="459720"/>
          </a:xfrm>
        </p:grpSpPr>
        <p:sp>
          <p:nvSpPr>
            <p:cNvPr id="695" name=""/>
            <p:cNvSpPr/>
            <p:nvPr/>
          </p:nvSpPr>
          <p:spPr>
            <a:xfrm>
              <a:off x="3557520" y="29383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( 12, 1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62480" y="3152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5638680" y="1627200"/>
            <a:ext cx="3276720" cy="23353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762520" y="3448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12    and   y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1320" y="3352680"/>
            <a:ext cx="274320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1968480" y="984240"/>
            <a:ext cx="4965840" cy="556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934320" y="990720"/>
            <a:ext cx="1828800" cy="102708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rcRect l="2083" t="1118" r="0" b="0"/>
          <a:stretch/>
        </p:blipFill>
        <p:spPr>
          <a:xfrm>
            <a:off x="2932200" y="2085840"/>
            <a:ext cx="3058920" cy="252900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657840" y="1038240"/>
            <a:ext cx="2257560" cy="1019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274320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86280" y="2286000"/>
            <a:ext cx="1676160" cy="3048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6396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2260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11480" y="2260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895480" y="2286000"/>
            <a:ext cx="2743200" cy="3048120"/>
          </a:xfrm>
          <a:custGeom>
            <a:avLst/>
            <a:gdLst/>
            <a:ahLst/>
            <a:rect l="l" t="t" r="r" b="b"/>
            <a:pathLst>
              <a:path w="1392" h="1920">
                <a:moveTo>
                  <a:pt x="0" y="1920"/>
                </a:moveTo>
                <a:lnTo>
                  <a:pt x="144" y="0"/>
                </a:lnTo>
                <a:lnTo>
                  <a:pt x="1392" y="1920"/>
                </a:lnTo>
                <a:lnTo>
                  <a:pt x="0" y="192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590920" y="2286000"/>
            <a:ext cx="966600" cy="30574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85880" y="2286000"/>
            <a:ext cx="971640" cy="158580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81280" y="3733560"/>
            <a:ext cx="16765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71920" y="2314440"/>
            <a:ext cx="1671480" cy="3005280"/>
          </a:xfrm>
          <a:custGeom>
            <a:avLst/>
            <a:gdLst/>
            <a:ahLst/>
            <a:rect l="l" t="t" r="r" b="b"/>
            <a:pathLst>
              <a:path w="1056" h="1920">
                <a:moveTo>
                  <a:pt x="0" y="1920"/>
                </a:moveTo>
                <a:lnTo>
                  <a:pt x="0" y="0"/>
                </a:lnTo>
                <a:lnTo>
                  <a:pt x="1056" y="912"/>
                </a:lnTo>
                <a:lnTo>
                  <a:pt x="0" y="192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81280" y="3767040"/>
            <a:ext cx="3505320" cy="1567080"/>
          </a:xfrm>
          <a:custGeom>
            <a:avLst/>
            <a:gdLst/>
            <a:ahLst/>
            <a:rect l="l" t="t" r="r" b="b"/>
            <a:pathLst>
              <a:path w="2208" h="1008">
                <a:moveTo>
                  <a:pt x="0" y="1008"/>
                </a:moveTo>
                <a:lnTo>
                  <a:pt x="1056" y="0"/>
                </a:lnTo>
                <a:lnTo>
                  <a:pt x="2208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638440" y="228600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0"/>
                </a:moveTo>
                <a:lnTo>
                  <a:pt x="576" y="0"/>
                </a:lnTo>
                <a:lnTo>
                  <a:pt x="1680" y="960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24040" y="3838680"/>
            <a:ext cx="2691000" cy="1504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67240" y="2286000"/>
            <a:ext cx="1752480" cy="148608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0" y="0"/>
                </a:moveTo>
                <a:lnTo>
                  <a:pt x="1104" y="0"/>
                </a:lnTo>
                <a:lnTo>
                  <a:pt x="1104" y="912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666880" y="380988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15040" y="22860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580920" y="228600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34120" y="3809880"/>
            <a:ext cx="1795320" cy="152424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0" y="0"/>
                </a:moveTo>
                <a:lnTo>
                  <a:pt x="0" y="960"/>
                </a:lnTo>
                <a:lnTo>
                  <a:pt x="1104" y="960"/>
                </a:lnTo>
                <a:lnTo>
                  <a:pt x="0" y="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nd Someone Who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omeone in the group who satisfies each criteria on th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quare must have a differ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BINGO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INGO – full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46720" y="1928880"/>
            <a:ext cx="3083040" cy="3984480"/>
            <a:chOff x="5346720" y="1928880"/>
            <a:chExt cx="3083040" cy="3984480"/>
          </a:xfrm>
        </p:grpSpPr>
        <p:graphicFrame>
          <p:nvGraphicFramePr>
            <p:cNvPr id="184" name=""/>
            <p:cNvGraphicFramePr/>
            <p:nvPr/>
          </p:nvGraphicFramePr>
          <p:xfrm>
            <a:off x="5355360" y="1951200"/>
            <a:ext cx="3007440" cy="3891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5360" y="1951200"/>
                      <a:ext cx="3007440" cy="38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5346720" y="1928880"/>
              <a:ext cx="3083040" cy="39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648160" cy="33847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667200">
            <a:off x="5400720" y="2457000"/>
            <a:ext cx="2666880" cy="3353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90" name=""/>
          <p:cNvGrpSpPr/>
          <p:nvPr/>
        </p:nvGrpSpPr>
        <p:grpSpPr>
          <a:xfrm>
            <a:off x="515520" y="2165760"/>
            <a:ext cx="3146400" cy="3719880"/>
            <a:chOff x="515520" y="2165760"/>
            <a:chExt cx="3146400" cy="371988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 rot="21073800">
              <a:off x="755280" y="2349000"/>
              <a:ext cx="2666520" cy="33526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2" name=""/>
            <p:cNvSpPr/>
            <p:nvPr/>
          </p:nvSpPr>
          <p:spPr>
            <a:xfrm rot="21073800">
              <a:off x="2498040" y="5276880"/>
              <a:ext cx="882720" cy="23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556000" y="1700280"/>
            <a:ext cx="373536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162920" cy="397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768840" cy="487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3429000" y="2286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286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572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4572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 rot="615000">
            <a:off x="4248000" y="2023560"/>
            <a:ext cx="2895840" cy="360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ploring the Math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, explore the Math Processes package with particular attention to a “different” process than you studied 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e Big Idea is Problem Solv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1337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282760"/>
            <a:ext cx="7848720" cy="277452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olving forms the basis of effective mathematics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hould be the mainstay of mathematical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tario Curriculum Grades 1 – 8 Mathematics revised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31264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(s) select one of the following problems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using the MP package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te when a MP is recognized as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0T13:37:34Z</dcterms:modified>
  <cp:revision>130</cp:revision>
  <dc:subject/>
  <dc:title>Slide 1</dc:title>
</cp:coreProperties>
</file>